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54DB-5908-4466-8B03-243BE38E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BB3A-8380-4905-A454-A03E64D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0D05-48A9-4C4E-A526-DDE876F7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A3DE-5DFB-475A-A29B-65143625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30C8-B857-448F-A5CC-24F006A5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9CEA-FC3F-48BD-B19E-0A5574DB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9310-9523-4A63-B41C-5D859B37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9CFF-2B4C-46B2-A0AE-58397093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204-D8A5-4D1F-8BD5-753CBDB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577-3ABE-4A3D-80E4-8E46CBA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222C-FFEA-4A5C-8EB0-2D0CF19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8DD3-2137-4993-B6FF-0B39C91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CC7A-BC1C-40E7-B94A-9036E13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5A8-B62F-44E6-9C88-C2E760C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C8B5-8152-4707-BCBD-6A7F920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DDB6-F5C9-47EB-BBC4-2C1E0443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6783-C44B-43A6-B3E5-E104BC55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4894-4750-4218-81CB-CA9CBF62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C771-0547-4CFD-B117-E2FF1FB1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FC5D-197E-4D57-B255-DB5FA9A0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A828-B914-4AB3-A80C-EBFD8998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D787-1CAC-4407-809A-56B562F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CA9E-C043-4DCD-81E4-DFCC082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5C93-CB20-4C2D-AA02-AA81B870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9FAE-000E-4034-9300-615A8AFBE9E9}" type="slidenum"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_BighausTitu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_BighausTitu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6698-7EAD-419E-AD0E-D2A35D80289F}" type="slidenum">
              <a:rPr b="0" lang="en-US" sz="1200" spc="-1" strike="noStrike">
                <a:solidFill>
                  <a:srgbClr val="ffffff"/>
                </a:solidFill>
                <a:latin typeface="a_BighausTitu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_BighausTitu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3789360"/>
            <a:ext cx="860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гибкое ресурсно-календарное планирование на основе 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еполных и приблизительных данных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ff0000"/>
                </a:solidFill>
                <a:uFillTx/>
                <a:latin typeface="Garamond"/>
              </a:rPr>
              <a:t>Р О С С И Й С К И Й   Н И И   И С К У С С Т В Е Н Н О Г О   И Н Т Е Л Л Е К Т А</a:t>
            </a:r>
            <a:br>
              <a:rPr sz="4000"/>
            </a:br>
            <a:br>
              <a:rPr sz="1000"/>
            </a:br>
            <a:br>
              <a:rPr sz="1000"/>
            </a:br>
            <a:br>
              <a:rPr sz="1000"/>
            </a:br>
            <a:endParaRPr b="1" lang="en-US" sz="1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700280"/>
            <a:ext cx="6048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72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br>
              <a:rPr sz="6600"/>
            </a:br>
            <a:endParaRPr b="0" lang="en-US" sz="72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421000"/>
            <a:ext cx="87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руктура логической последовательности заданий проекта представлена на сетевой (ПЕРТ) диа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616880" cy="571176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2556000" y="2565360"/>
            <a:ext cx="2447640" cy="223200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1052640"/>
            <a:ext cx="2449440" cy="1152360"/>
          </a:xfrm>
          <a:prstGeom prst="wedgeRoundRectCallout">
            <a:avLst>
              <a:gd name="adj1" fmla="val -3337"/>
              <a:gd name="adj2" fmla="val 9696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мер последовательного выполнения заданий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781360"/>
            <a:ext cx="1438560" cy="576360"/>
          </a:xfrm>
          <a:prstGeom prst="borderCallout1">
            <a:avLst>
              <a:gd name="adj1" fmla="val 18750"/>
              <a:gd name="adj2" fmla="val -8333"/>
              <a:gd name="adj3" fmla="val 69421"/>
              <a:gd name="adj4" fmla="val 127152"/>
            </a:avLst>
          </a:prstGeom>
          <a:solidFill>
            <a:srgbClr val="0099cc"/>
          </a:solidFill>
          <a:ln w="93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Задание-предшественник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5157720"/>
            <a:ext cx="1366560" cy="576360"/>
          </a:xfrm>
          <a:prstGeom prst="borderCallout1">
            <a:avLst>
              <a:gd name="adj1" fmla="val 18750"/>
              <a:gd name="adj2" fmla="val -8333"/>
              <a:gd name="adj3" fmla="val -104407"/>
              <a:gd name="adj4" fmla="val 133796"/>
            </a:avLst>
          </a:prstGeom>
          <a:solidFill>
            <a:srgbClr val="0099cc"/>
          </a:solidFill>
          <a:ln w="93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Задание-последователь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2349360"/>
            <a:ext cx="1656000" cy="574920"/>
          </a:xfrm>
          <a:prstGeom prst="borderCallout1">
            <a:avLst>
              <a:gd name="adj1" fmla="val 18750"/>
              <a:gd name="adj2" fmla="val -8333"/>
              <a:gd name="adj3" fmla="val 259944"/>
              <a:gd name="adj4" fmla="val -85907"/>
            </a:avLst>
          </a:prstGeom>
          <a:solidFill>
            <a:srgbClr val="0099cc"/>
          </a:solidFill>
          <a:ln w="93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тношение между заданиями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035600" cy="365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2205000"/>
            <a:ext cx="1371600" cy="546120"/>
          </a:xfrm>
          <a:prstGeom prst="borderCallout1">
            <a:avLst>
              <a:gd name="adj1" fmla="val 18750"/>
              <a:gd name="adj2" fmla="val -8333"/>
              <a:gd name="adj3" fmla="val 25583"/>
              <a:gd name="adj4" fmla="val 13159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Интервал начала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2492280"/>
            <a:ext cx="1219320" cy="546120"/>
          </a:xfrm>
          <a:prstGeom prst="borderCallout1">
            <a:avLst>
              <a:gd name="adj1" fmla="val 18750"/>
              <a:gd name="adj2" fmla="val -8333"/>
              <a:gd name="adj3" fmla="val 870"/>
              <a:gd name="adj4" fmla="val -8541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Интервал 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кончания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5144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аспределения заданий по времени удобно отображать на ленточной диаграмме Гантта, иллюстрирующей временной график проекта.</a:t>
            </a:r>
            <a:endParaRPr b="0" lang="en-US" sz="2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335772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ременному интервалу каждого задания плана в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me-EX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ответствует двухуровневая полоса, которая разделена на два сектора: интервал начала представлен зелёным сектором, а интервал окончания – красным. Границы секторов снабжены маркерами, выделяющими соответствующие нижние и верхние оценки.</a:t>
            </a:r>
            <a:endParaRPr b="0" lang="en-US" sz="2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69" name=""/>
          <p:cNvSpPr/>
          <p:nvPr/>
        </p:nvSpPr>
        <p:spPr>
          <a:xfrm>
            <a:off x="1194120" y="2959200"/>
            <a:ext cx="647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Фрагмент обобщённой диаграммы Гантта</a:t>
            </a:r>
            <a:endParaRPr b="0" lang="en-US" sz="23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38080" y="4437000"/>
            <a:ext cx="2581560" cy="1506600"/>
          </a:xfrm>
          <a:prstGeom prst="wedgeRoundRectCallout">
            <a:avLst>
              <a:gd name="adj1" fmla="val 61990"/>
              <a:gd name="adj2" fmla="val -8424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диаграмме представлен план, полученный на первом шаге уточнения (расчета)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492280"/>
            <a:ext cx="3745080" cy="865440"/>
          </a:xfrm>
          <a:prstGeom prst="rect">
            <a:avLst/>
          </a:prstGeom>
          <a:noFill/>
          <a:ln w="936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933720"/>
            <a:ext cx="3329280" cy="1857600"/>
          </a:xfrm>
          <a:prstGeom prst="wedgeRoundRectCallout">
            <a:avLst>
              <a:gd name="adj1" fmla="val 1694"/>
              <a:gd name="adj2" fmla="val -80768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ак видно, параметры заданий остаются недоопределенными и представлены достаточно широкими интервалами. Для оптимизации плана требуется операция сжатия.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666880"/>
            <a:ext cx="849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жатие может производиться путём введения более жёстких ограничений на начало и окончание заданий или всего проекта в целом.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4797360"/>
            <a:ext cx="1584360" cy="792360"/>
          </a:xfrm>
          <a:prstGeom prst="wedgeRoundRectCallout">
            <a:avLst>
              <a:gd name="adj1" fmla="val -56611"/>
              <a:gd name="adj2" fmla="val -128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сходный проект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67640" y="1844640"/>
            <a:ext cx="649440" cy="36036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2565360"/>
            <a:ext cx="2376360" cy="720720"/>
          </a:xfrm>
          <a:prstGeom prst="wedgeRoundRectCallout">
            <a:avLst>
              <a:gd name="adj1" fmla="val 86203"/>
              <a:gd name="adj2" fmla="val -10374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меньшаем позднее окончание проект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6000" y="4797360"/>
            <a:ext cx="2016000" cy="1008000"/>
          </a:xfrm>
          <a:prstGeom prst="wedgeRoundRectCallout">
            <a:avLst>
              <a:gd name="adj1" fmla="val -46851"/>
              <a:gd name="adj2" fmla="val -95671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араметры заданий стали более точными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005360"/>
            <a:ext cx="720720" cy="79200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0" y="3357720"/>
            <a:ext cx="504720" cy="28728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2205000"/>
            <a:ext cx="3311640" cy="1008000"/>
          </a:xfrm>
          <a:prstGeom prst="wedgeRoundRectCallout">
            <a:avLst>
              <a:gd name="adj1" fmla="val 41370"/>
              <a:gd name="adj2" fmla="val 63541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Заштрихованная область показывает степень сжатия по каждому заданию.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1523880"/>
            <a:ext cx="82296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Garamond"/>
              </a:rPr>
              <a:t>Time-EX</a:t>
            </a:r>
            <a:r>
              <a:rPr b="0" lang="en-US" sz="3200" spc="-1" strike="noStrike" baseline="60000">
                <a:solidFill>
                  <a:srgbClr val="ff9933"/>
                </a:solidFill>
                <a:latin typeface="Arial"/>
                <a:ea typeface="Arial"/>
              </a:rPr>
              <a:t>®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оставляет возможность планирования ресурсов и стоимости проекта. 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од параметров ресурсов и их назначение осуществляется с помощью таблицы ресурсов и таблицы использования ресурсов.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27640" y="3645000"/>
            <a:ext cx="3889440" cy="1584360"/>
          </a:xfrm>
          <a:prstGeom prst="wedgeRoundRectCallout">
            <a:avLst>
              <a:gd name="adj1" fmla="val -62569"/>
              <a:gd name="adj2" fmla="val -66833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Таблица ресурсов содержит список ресурсов, используемых в проекте, их количество, стоимость и производительность возобновляемых ресурсов.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205000"/>
            <a:ext cx="3311640" cy="1295280"/>
          </a:xfrm>
          <a:prstGeom prst="wedgeRoundRectCallout">
            <a:avLst>
              <a:gd name="adj1" fmla="val 91564"/>
              <a:gd name="adj2" fmla="val -78064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Таблица использования ресурсов показывает какие ресурсы и в каком количестве назначены на задания проект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010800" cy="73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0800" cy="73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лановое распределение загрузки ресурсов и стоимости проекта по времени его выполнения отображается на гистограммах.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940360" y="3141720"/>
            <a:ext cx="2016360" cy="936720"/>
          </a:xfrm>
          <a:prstGeom prst="wedgeRoundRectCallout">
            <a:avLst>
              <a:gd name="adj1" fmla="val -33305"/>
              <a:gd name="adj2" fmla="val 115763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загрузки ресурс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0" name=""/>
          <p:cNvSpPr/>
          <p:nvPr/>
        </p:nvSpPr>
        <p:spPr>
          <a:xfrm>
            <a:off x="2700360" y="2349360"/>
            <a:ext cx="2738520" cy="1006560"/>
          </a:xfrm>
          <a:prstGeom prst="wedgeRoundRectCallout">
            <a:avLst>
              <a:gd name="adj1" fmla="val 58638"/>
              <a:gd name="adj2" fmla="val 188013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ерхняя граница интервала максимальной загрузки ресурс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4653000"/>
            <a:ext cx="2811600" cy="1008000"/>
          </a:xfrm>
          <a:prstGeom prst="wedgeRoundRectCallout">
            <a:avLst>
              <a:gd name="adj1" fmla="val 73263"/>
              <a:gd name="adj2" fmla="val -1125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ижняя граница интервала максимальной загрузки ресурс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429000"/>
            <a:ext cx="2162160" cy="503280"/>
          </a:xfrm>
          <a:prstGeom prst="wedgeRoundRectCallout">
            <a:avLst>
              <a:gd name="adj1" fmla="val 59324"/>
              <a:gd name="adj2" fmla="val 12318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звание ресурс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2565360"/>
            <a:ext cx="3024360" cy="1584360"/>
          </a:xfrm>
          <a:prstGeom prst="wedgeRoundRectCallout">
            <a:avLst>
              <a:gd name="adj1" fmla="val 88425"/>
              <a:gd name="adj2" fmla="val 62324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лановое распределение стоимость проекта во времени также представлено в виде гистограммы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00000" y="2637000"/>
            <a:ext cx="2664000" cy="1295280"/>
          </a:xfrm>
          <a:prstGeom prst="wedgeRoundRectCallout">
            <a:avLst>
              <a:gd name="adj1" fmla="val 97379"/>
              <a:gd name="adj2" fmla="val 8284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оме того, стоимость можно представить в виде накопленной стоимости (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кривая)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ение плана отслеживается с помощью изменения текущей даты проекта, которая отображается на диаграмме Ганнта при помощи «луча». Слева от луча находятся выполненные или начатые задания. Их параметры становятся точными и они выделяются другим цветом Справа от луча находятся выполняемые и еще не начатые зад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стояние задания отображается в таблице и дереве зада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76720" y="1125360"/>
            <a:ext cx="2089080" cy="648000"/>
          </a:xfrm>
          <a:prstGeom prst="wedgeRoundRectCallout">
            <a:avLst>
              <a:gd name="adj1" fmla="val -61398"/>
              <a:gd name="adj2" fmla="val 121078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ыполненная часть задания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4" name=""/>
          <p:cNvSpPr/>
          <p:nvPr/>
        </p:nvSpPr>
        <p:spPr>
          <a:xfrm>
            <a:off x="5651640" y="3068640"/>
            <a:ext cx="1726920" cy="720720"/>
          </a:xfrm>
          <a:prstGeom prst="wedgeRoundRectCallout">
            <a:avLst>
              <a:gd name="adj1" fmla="val -41175"/>
              <a:gd name="adj2" fmla="val -11784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е начатое задание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4724280"/>
            <a:ext cx="1871640" cy="648000"/>
          </a:xfrm>
          <a:prstGeom prst="wedgeRoundRectCallout">
            <a:avLst>
              <a:gd name="adj1" fmla="val -71458"/>
              <a:gd name="adj2" fmla="val -10196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уч текущей даты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4221000"/>
            <a:ext cx="1584360" cy="432000"/>
          </a:xfrm>
          <a:prstGeom prst="wedgeRoundRectCallout">
            <a:avLst>
              <a:gd name="adj1" fmla="val -87476"/>
              <a:gd name="adj2" fmla="val -7279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е начатое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1341360"/>
            <a:ext cx="1873080" cy="432000"/>
          </a:xfrm>
          <a:prstGeom prst="wedgeRoundRectCallout">
            <a:avLst>
              <a:gd name="adj1" fmla="val -62120"/>
              <a:gd name="adj2" fmla="val 11397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ыполняется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2060640"/>
            <a:ext cx="1440000" cy="431640"/>
          </a:xfrm>
          <a:prstGeom prst="wedgeRoundRectCallout">
            <a:avLst>
              <a:gd name="adj1" fmla="val -129384"/>
              <a:gd name="adj2" fmla="val -808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ыполнено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2852640"/>
            <a:ext cx="1800360" cy="433440"/>
          </a:xfrm>
          <a:prstGeom prst="wedgeRoundRectCallout">
            <a:avLst>
              <a:gd name="adj1" fmla="val -92592"/>
              <a:gd name="adj2" fmla="val -10531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ритическое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609480"/>
            <a:ext cx="876312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Garamond"/>
                <a:ea typeface="Arial"/>
              </a:rPr>
              <a:t>Time-EX</a:t>
            </a:r>
            <a:r>
              <a:rPr b="1" lang="en-US" sz="2800" spc="-1" strike="noStrike" baseline="30000">
                <a:solidFill>
                  <a:srgbClr val="ff9933"/>
                </a:solidFill>
                <a:latin typeface="Garamond"/>
                <a:ea typeface="Arial"/>
              </a:rPr>
              <a:t>®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</a:rPr>
              <a:t>включает комплекс эффективных средств структурного планирования: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ffcc00"/>
              </a:buClr>
              <a:buFont typeface="Wingdings" charset="2"/>
              <a:buChar char="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Средства описания заданий при помощи отдельных планов, для адаптации к любой структуре организации;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ffcc00"/>
              </a:buClr>
              <a:buFont typeface="Wingdings" charset="2"/>
              <a:buChar char="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Средства интеграции отдельных планов в единый план, например, планы подразделений – в план организации;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ffcc00"/>
              </a:buClr>
              <a:buFont typeface="Wingdings" charset="2"/>
              <a:buChar char="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Возможность параллельного формирования, оптимизации и сопровождения планов работ, выполняемых в подразделениях, избегая излишней детализации плана на каждом уровне управления;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ffcc00"/>
              </a:buClr>
              <a:buFont typeface="Wingdings" charset="2"/>
              <a:buChar char=""/>
              <a:tabLst>
                <a:tab algn="l" pos="22860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Возможность использовать типовые планы, подпланы, фазы, пакеты планов при создании конкретного проекта, а также сохранение разработанных подпланов – импорт и экспорт планов.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3360" cy="5716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10737000">
            <a:off x="1692000" y="5300280"/>
            <a:ext cx="1981080" cy="447840"/>
          </a:xfrm>
          <a:prstGeom prst="wedgeRoundRectCallout">
            <a:avLst>
              <a:gd name="adj1" fmla="val -100171"/>
              <a:gd name="adj2" fmla="val 43299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Экспорт подплана</a:t>
            </a:r>
            <a:endParaRPr b="0" lang="en-US" sz="16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2360" y="3933720"/>
            <a:ext cx="5688000" cy="172728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1628640"/>
            <a:ext cx="4824360" cy="122400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285264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3284640"/>
            <a:ext cx="3203640" cy="431640"/>
          </a:xfrm>
          <a:prstGeom prst="wedgeRoundRectCallout">
            <a:avLst>
              <a:gd name="adj1" fmla="val 45240"/>
              <a:gd name="adj2" fmla="val -16029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Экспортированный план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556000" y="3213000"/>
            <a:ext cx="2592360" cy="720720"/>
          </a:xfrm>
          <a:prstGeom prst="wedgeRoundRectCallout">
            <a:avLst>
              <a:gd name="adj1" fmla="val 21097"/>
              <a:gd name="adj2" fmla="val -10418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птимизация отдельного подплан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393480"/>
            <a:ext cx="792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ссмотрим пример строительства газопровод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уктура проекта представлена следующим образом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81480"/>
            <a:ext cx="91440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Весь процесс планирования в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Garamond"/>
              </a:rPr>
              <a:t>Time-EX</a:t>
            </a:r>
            <a:r>
              <a:rPr b="0" lang="en-US" sz="2400" spc="-1" strike="noStrike" baseline="50000">
                <a:solidFill>
                  <a:srgbClr val="ff9933"/>
                </a:solidFill>
                <a:latin typeface="Garamond"/>
              </a:rPr>
              <a:t>®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разделяется на три этапа: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06" name=""/>
          <p:cNvSpPr/>
          <p:nvPr/>
        </p:nvSpPr>
        <p:spPr>
          <a:xfrm>
            <a:off x="884160" y="5715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Ввод данных                  Расчёт                  Выполнение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523880"/>
          <a:ext cx="8178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178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16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0800000">
            <a:off x="1116000" y="5013000"/>
            <a:ext cx="3672000" cy="1152360"/>
          </a:xfrm>
          <a:prstGeom prst="wedgeRoundRectCallout">
            <a:avLst>
              <a:gd name="adj1" fmla="val -11439"/>
              <a:gd name="adj2" fmla="val 135398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нтегрированный план с импортированным оптимизированным подпланом 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2276640"/>
            <a:ext cx="5543640" cy="1800000"/>
          </a:xfrm>
          <a:prstGeom prst="rect">
            <a:avLst/>
          </a:prstGeom>
          <a:noFill/>
          <a:ln w="19080">
            <a:solidFill>
              <a:srgbClr val="a886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38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Оригинальный аппарат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2400" spc="-1" strike="noStrike" baseline="30000">
                <a:solidFill>
                  <a:srgbClr val="ffcc00"/>
                </a:solidFill>
                <a:latin typeface="Garamond"/>
              </a:rPr>
              <a:t>®</a:t>
            </a:r>
            <a:r>
              <a:rPr b="1" i="1" lang="en-US" sz="24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обеспечивает пользователю три следующих уникальных преимущества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качестве исходных данных плана пользователю достаточно ввести только связи между заданиями, а также известные к данному моменту временные ограничения на даты и/или продолжительность заданий и на распределение ресурсов. Этих частичных и приблизительных входных данных достаточно системе вывода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-E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ля автоматического доуточнения плана, определяющего более конкретные значения параметров заданий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се точные варианты графика, соответствующие введенным пользователем ограничениям, представлены в едином обобщенном плане. Именно с ним работает пользователь в процессе уточнения и оптимизации разрабатываемого графика работ. Обобщенный план - самый простой и естественный способ представления миллиардов возможных конкретных вариантов графика, удовлетворяющих исходным ограничениям.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ime-EX</a:t>
            </a:r>
            <a:r>
              <a:rPr b="1" lang="en-US" sz="22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беспечивает все необходимые пользователю средства для эффективного уточнения и оптимизации плана, гарантирующие наилучшие временные и экономические показатели. При этом результирующий график может остаться недоопределенным, то есть сохранить интервальные параметры, обеспечивающие гибкость плана при любом изменении реальных условий в процессе его выполнения. </a:t>
            </a:r>
            <a:br>
              <a:rPr sz="2400"/>
            </a:b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доопределенность результирующего варианта плана обеспечивает возможность его автоматической адаптации к отклонениям временных параметров во время реализации. Контролируя выполнение плана на основе информации о выполнении текущих заданий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ime-EX</a:t>
            </a:r>
            <a:r>
              <a:rPr b="1" lang="en-US" sz="2400" spc="-1" strike="noStrike" baseline="30000">
                <a:solidFill>
                  <a:srgbClr val="ffcc00"/>
                </a:solidFill>
                <a:latin typeface="Garamond"/>
              </a:rPr>
              <a:t>®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втоматически уточняет график его завершения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еречисленные преимущества являются решающими для эффективного и оптимального процесса описания и уточнения плана, его показателя качества/стоимости и стабильности при выполнении. Никакой другой метод планирования не обеспечивает даже одной из этих решающих особенностей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1625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b313"/>
                </a:solidFill>
                <a:latin typeface="Garamond"/>
              </a:rPr>
              <a:t>Time-EX</a:t>
            </a:r>
            <a:r>
              <a:rPr b="1" lang="en-US" sz="2400" spc="-1" strike="noStrike" baseline="30000">
                <a:solidFill>
                  <a:srgbClr val="ffb313"/>
                </a:solidFill>
                <a:latin typeface="Garamond"/>
              </a:rPr>
              <a:t>®</a:t>
            </a:r>
            <a:r>
              <a:rPr b="1" i="1" lang="en-US" sz="24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иентирована на разработку соответствующих функциональных составляющих в любых системах, включающих компоненты календарно-ресурсного и временного планирования. Сегодня основными областями ее применения являются: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247" name=""/>
          <p:cNvSpPr/>
          <p:nvPr/>
        </p:nvSpPr>
        <p:spPr>
          <a:xfrm>
            <a:off x="808200" y="3112920"/>
            <a:ext cx="772452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комплексы корпоративного управления;</a:t>
            </a:r>
            <a:endParaRPr b="0" lang="en-US" sz="23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разработка и контроль исполнения планов   деятельности администраций центрального, муниципального и регионального уровня;</a:t>
            </a:r>
            <a:endParaRPr b="0" lang="en-US" sz="23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планирование и контроль мероприятий в чрезвычайных ситуациях;</a:t>
            </a:r>
            <a:endParaRPr b="0" lang="en-US" sz="2300" spc="-1" strike="noStrike">
              <a:solidFill>
                <a:srgbClr val="ffffff"/>
              </a:solidFill>
              <a:latin typeface="a_BighausTitu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планирование и управление проектами </a:t>
            </a:r>
            <a:br>
              <a:rPr sz="2300"/>
            </a:b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различного типа.</a:t>
            </a:r>
            <a:r>
              <a:rPr b="0" lang="en-US" sz="2300" spc="-1" strike="noStrike">
                <a:solidFill>
                  <a:srgbClr val="ffffcc"/>
                </a:solidFill>
                <a:latin typeface="Garamond"/>
              </a:rPr>
              <a:t> 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ffcc00"/>
                </a:solidFill>
                <a:latin typeface="Garamond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Не менее важные результаты могут быть получены в рамках работ по адаптации технологии </a:t>
            </a:r>
            <a:r>
              <a:rPr b="1" lang="en-US" sz="2400" spc="-1" strike="noStrike">
                <a:solidFill>
                  <a:srgbClr val="ffb313"/>
                </a:solidFill>
                <a:latin typeface="Garamond"/>
              </a:rPr>
              <a:t>Time-EX</a:t>
            </a:r>
            <a:r>
              <a:rPr b="1" lang="en-US" sz="2400" spc="-1" strike="noStrike" baseline="30000">
                <a:solidFill>
                  <a:srgbClr val="ffb313"/>
                </a:solidFill>
                <a:latin typeface="Garamond"/>
              </a:rPr>
              <a:t>®</a:t>
            </a:r>
            <a:r>
              <a:rPr b="1" lang="en-US" sz="2400" spc="-1" strike="noStrike">
                <a:solidFill>
                  <a:srgbClr val="ffb31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к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ряду областей приложений, таких как транспорт,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финансы, административное управление и других.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К потенциальным областям использования разрабатываемой технологии относятся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планирование и контроль мероприятий в военных областях (технические мероприятия, обучение, боевые действия и др.);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планирование и контроль финансовой деятельности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и документооборота;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Garamond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системы планирования персональной деятельности;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управление производственными процессами;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управление потоками в сетях связи;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**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планирование и контроль транспортных потоков и д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этапе ввода данных формируется структура плана, вводятся необходимые ограничения, ресурсы и ценовые показател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828800"/>
            <a:ext cx="800244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0" lang="en-US" sz="2400" spc="-1" strike="noStrike">
                <a:solidFill>
                  <a:srgbClr val="ff9933"/>
                </a:solidFill>
                <a:latin typeface="Garamond"/>
              </a:rPr>
              <a:t>Time-EX</a:t>
            </a:r>
            <a:r>
              <a:rPr b="0" lang="en-US" sz="2400" spc="-1" strike="noStrike" baseline="50000">
                <a:solidFill>
                  <a:srgbClr val="ff9933"/>
                </a:solidFill>
                <a:latin typeface="Garamond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ые параметры, в том числе и такие как начало, окончание и\или длительность заданий, могут быть заданы не точно, а в виде интервалов, т.е. иметь  недоопределенные значения.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4290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следовательность выполнения заданий задаётся с помощью отношений, отражающих следующие виды связей:</a:t>
            </a:r>
            <a:endParaRPr b="0" lang="en-US" sz="2400" spc="-1" strike="noStrike">
              <a:solidFill>
                <a:srgbClr val="ffffff"/>
              </a:solidFill>
              <a:latin typeface="a_BighausTitu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4648320"/>
            <a:ext cx="3024360" cy="1793160"/>
            <a:chOff x="609480" y="4648320"/>
            <a:chExt cx="3024360" cy="1793160"/>
          </a:xfrm>
        </p:grpSpPr>
        <p:sp>
          <p:nvSpPr>
            <p:cNvPr id="114" name=""/>
            <p:cNvSpPr/>
            <p:nvPr/>
          </p:nvSpPr>
          <p:spPr>
            <a:xfrm>
              <a:off x="609480" y="4648320"/>
              <a:ext cx="1513080" cy="2901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Предшествующее</a:t>
              </a:r>
              <a:endParaRPr b="0" lang="en-US" sz="14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09840" y="4916160"/>
              <a:ext cx="1224000" cy="30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_BighausTitu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aramond"/>
                </a:rPr>
                <a:t>Следующее</a:t>
              </a:r>
              <a:endParaRPr b="0" lang="en-US" sz="1400" spc="-1" strike="noStrike">
                <a:solidFill>
                  <a:srgbClr val="ffffff"/>
                </a:solidFill>
                <a:latin typeface="a_BighausTitu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22560" y="4651200"/>
              <a:ext cx="144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9840" y="492408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2560" y="52956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98560" y="5527440"/>
              <a:ext cx="1162080" cy="288720"/>
            </a:xfrm>
            <a:prstGeom prst="borderCallout1">
              <a:avLst>
                <a:gd name="adj1" fmla="val 18750"/>
                <a:gd name="adj2" fmla="val -8333"/>
                <a:gd name="adj3" fmla="val -83518"/>
                <a:gd name="adj4" fmla="val 12144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1320" y="5511600"/>
              <a:ext cx="1295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cc"/>
                  </a:solidFill>
                  <a:latin typeface="Garamond"/>
                </a:rPr>
                <a:t>Запаздывание (лаг)</a:t>
              </a:r>
              <a:endParaRPr b="0" lang="en-US" sz="11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200" y="579888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5e5ff"/>
                  </a:solidFill>
                  <a:latin typeface="Garamond"/>
                </a:rPr>
                <a:t>Отношение </a:t>
              </a:r>
              <a:r>
                <a:rPr b="0" lang="en-US" sz="1800" spc="-1" strike="noStrike">
                  <a:solidFill>
                    <a:srgbClr val="e5e5ff"/>
                  </a:solidFill>
                  <a:latin typeface="Garamond"/>
                </a:rPr>
                <a:t>F&lt;S</a:t>
              </a:r>
              <a:endParaRPr b="0" lang="en-US" sz="1800" spc="-1" strike="noStrike">
                <a:solidFill>
                  <a:srgbClr val="ffffff"/>
                </a:solidFill>
                <a:latin typeface="a_BighausTitu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278240" y="4648320"/>
            <a:ext cx="151308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Предшествующее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195880"/>
            <a:ext cx="122580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Следующее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472752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52578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562720"/>
            <a:ext cx="1235160" cy="287280"/>
          </a:xfrm>
          <a:prstGeom prst="borderCallout1">
            <a:avLst>
              <a:gd name="adj1" fmla="val 18750"/>
              <a:gd name="adj2" fmla="val -8333"/>
              <a:gd name="adj3" fmla="val -98893"/>
              <a:gd name="adj4" fmla="val 1075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5562720"/>
            <a:ext cx="136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Garamond"/>
              </a:rPr>
              <a:t>Запаздывание (лаг)</a:t>
            </a:r>
            <a:endParaRPr b="0" lang="en-US" sz="11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958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Отношение </a:t>
            </a: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F&lt;F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0" name=""/>
          <p:cNvSpPr/>
          <p:nvPr/>
        </p:nvSpPr>
        <p:spPr>
          <a:xfrm>
            <a:off x="6661080" y="4648320"/>
            <a:ext cx="151308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Предшествующее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184720"/>
            <a:ext cx="108108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Следующее</a:t>
            </a:r>
            <a:endParaRPr b="0" lang="en-US" sz="14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2" name=""/>
          <p:cNvSpPr/>
          <p:nvPr/>
        </p:nvSpPr>
        <p:spPr>
          <a:xfrm>
            <a:off x="6661080" y="4753080"/>
            <a:ext cx="180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5184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4" name=""/>
          <p:cNvSpPr/>
          <p:nvPr/>
        </p:nvSpPr>
        <p:spPr>
          <a:xfrm>
            <a:off x="6661080" y="5400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5616720"/>
            <a:ext cx="1224000" cy="260280"/>
          </a:xfrm>
          <a:prstGeom prst="borderCallout1">
            <a:avLst>
              <a:gd name="adj1" fmla="val 18750"/>
              <a:gd name="adj2" fmla="val -8333"/>
              <a:gd name="adj3" fmla="val -84148"/>
              <a:gd name="adj4" fmla="val -2321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6" name=""/>
          <p:cNvSpPr/>
          <p:nvPr/>
        </p:nvSpPr>
        <p:spPr>
          <a:xfrm>
            <a:off x="7031160" y="5578560"/>
            <a:ext cx="1357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Garamond"/>
              </a:rPr>
              <a:t>Запаздывание (лаг)</a:t>
            </a:r>
            <a:endParaRPr b="0" lang="en-US" sz="11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587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Отношение </a:t>
            </a: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S&lt;S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819520"/>
            <a:ext cx="856944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мотрим как это реализуется в системе 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Garamond"/>
              </a:rPr>
              <a:t>Time-EX</a:t>
            </a:r>
            <a:r>
              <a:rPr b="0" lang="en-US" sz="2400" spc="-1" strike="noStrike" baseline="60000">
                <a:solidFill>
                  <a:srgbClr val="ff9933"/>
                </a:solidFill>
                <a:latin typeface="Arial"/>
                <a:ea typeface="Arial"/>
              </a:rPr>
              <a:t>®</a:t>
            </a: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808440" y="838080"/>
            <a:ext cx="2592360" cy="1297080"/>
          </a:xfrm>
          <a:prstGeom prst="wedgeRoundRectCallout">
            <a:avLst>
              <a:gd name="adj1" fmla="val -127157"/>
              <a:gd name="adj2" fmla="val 118541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ерархическая структура работ проекта (дерево заданий).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468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4120" y="2492280"/>
            <a:ext cx="2895480" cy="1368360"/>
          </a:xfrm>
          <a:prstGeom prst="wedgeRoundRectCallout">
            <a:avLst>
              <a:gd name="adj1" fmla="val -137333"/>
              <a:gd name="adj2" fmla="val 106611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таблице отношений представлены все  отношения (связи) между заданиями.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000" y="4365720"/>
            <a:ext cx="3168720" cy="1008000"/>
          </a:xfrm>
          <a:prstGeom prst="wedgeRoundRectCallout">
            <a:avLst>
              <a:gd name="adj1" fmla="val 75101"/>
              <a:gd name="adj2" fmla="val -152518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таблице заданий представлены параметры заданий и проекта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 flipV="1">
            <a:off x="4139640" y="2492280"/>
            <a:ext cx="2447640" cy="1224000"/>
          </a:xfrm>
          <a:prstGeom prst="wedgeRoundRectCallout">
            <a:avLst>
              <a:gd name="adj1" fmla="val -44555"/>
              <a:gd name="adj2" fmla="val 78921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проект введены ограничения на сроки начала и окончания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52" name=""/>
          <p:cNvSpPr/>
          <p:nvPr/>
        </p:nvSpPr>
        <p:spPr>
          <a:xfrm>
            <a:off x="6199200" y="1916280"/>
            <a:ext cx="1944720" cy="21564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0"/>
            <a:ext cx="15238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ime-EX</a:t>
            </a:r>
            <a:r>
              <a:rPr b="1" lang="en-US" sz="1800" spc="-1" strike="noStrike" baseline="30000">
                <a:solidFill>
                  <a:srgbClr val="ffcc00"/>
                </a:solidFill>
                <a:latin typeface="Garamond"/>
                <a:ea typeface="Arial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_BighausTitu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12:57:21Z</dcterms:created>
  <dc:creator>Дмитрий Инишев</dc:creator>
  <dc:description/>
  <dc:language>en-US</dc:language>
  <cp:lastModifiedBy>Дмитрий Инишев</cp:lastModifiedBy>
  <dcterms:modified xsi:type="dcterms:W3CDTF">2001-12-20T21:05:54Z</dcterms:modified>
  <cp:revision>84</cp:revision>
  <dc:subject/>
  <dc:title>Time-EX®</dc:title>
</cp:coreProperties>
</file>